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3.wmf" ContentType="image/x-wmf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4.wmf" ContentType="image/x-wmf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64B73-25E1-44C8-AA03-1F56CB346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87FDA-4AA0-43DC-B484-F5FBFE024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1582B-7A09-47FF-B427-710B6B8C4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EE240-FCD8-4BDC-A6D2-5009F22E0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9812B-9FB5-4699-AADC-C9CACFEB2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E3FC3-FAEF-4D3A-A17D-7C41F1436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A663C-1BC8-4B30-89B9-CEE253F8F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BBD06-CC07-418E-90C7-0EB272AA0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5CC84-116C-4E50-B467-AE6164F63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E2EA9-52F7-4175-B3B5-69E4E34AB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33F57-E3C8-41C9-976A-4ED8C3916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F712D-030B-4EF1-9B3C-7EB13CB42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743AD-150D-4E14-8C20-E11522B65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41C0E-48CE-4C65-9E38-550665A97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FAFC6-7565-4052-90D9-6968C0CC3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08EB2-5208-4D55-A50A-99EBB15F0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6BAF9-3FED-4B3A-B83F-219E48245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0646A-4C09-43C1-A6EC-DA2B69077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83DCE-7D0A-4667-9B05-98068D8F5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6819D-5747-4126-8DB3-1FF745929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DDA4B-7A88-4969-B353-CA7639402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9A1CE-9E74-4312-A51E-E651F8FA2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79280-6737-40FF-A343-BF6BDFA1F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A7CB1-2018-4204-9B2D-5B3D2A76D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F92CD-633C-4BE5-8DA5-C1358D019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EEDB1-ADD5-4035-BA8D-BFDBA5563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14A27-9D2C-4479-BC89-F9E560F9E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49325-8A67-4C73-8D01-9DD046DA9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C63D9-348F-4199-BEA1-40B327C2A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A4E4B-9233-400E-8E9B-C67E49DC2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DB257-3209-44A9-8488-C528D5FBE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E4166-F046-4F67-8585-CB5373E8D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8AE-6A8D-4D58-840B-FB1995A1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447-5B53-4F20-B3AD-2D18385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7C6-9DFB-4A49-B613-92162CB1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8B3-AC62-449E-A95C-04E1DAA1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7D3-0512-4B9D-95D5-899D01C6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366-F716-4880-B161-3690C222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101-88BB-44B7-AEF9-A8493E3D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FA3-42C1-4A10-8EF1-88EEB300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B9B-0656-4497-A2C6-EFF413C3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B8F-CC4B-484F-A3E9-5FD7815A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339-C5EE-4D2A-BA08-15EDCC0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568-4580-4E74-A2D0-A2DDD21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494F-2A92-4B6C-8C42-99F1028CA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ILLINOIS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BUILDING SCHO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FAMILY, AND COMMUNITY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 Lt BT"/>
              </a:rPr>
              <a:t>Primarily based upon Epstein, J.L. Costes, L. Salinas, K.C. Sanders, M. G. &amp; Simon, B. S. (1977). </a:t>
            </a:r>
            <a:r>
              <a:rPr b="1" i="1" lang="en-US" sz="2000" spc="-1" strike="noStrike">
                <a:solidFill>
                  <a:srgbClr val="ffffff"/>
                </a:solidFill>
                <a:latin typeface="Futura Lt BT"/>
              </a:rPr>
              <a:t>School Family, and Community Partnerships: Your Handbook for Action</a:t>
            </a:r>
            <a:r>
              <a:rPr b="1" lang="en-US" sz="2000" spc="-1" strike="noStrike">
                <a:solidFill>
                  <a:srgbClr val="ffffff"/>
                </a:solidFill>
                <a:latin typeface="Futura Lt BT"/>
              </a:rPr>
              <a:t>.  Thousand Oaks, CA: Corwin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Incomplete version of a presentation develop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The Adult Learning Resource Center, Des Plaines, I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Visuals were added by Jeanette Gord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Illinois Resource Center to aide communication with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828800" y="1295280"/>
            <a:ext cx="5410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34280" cy="5133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38088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TYPE 1: SUPPORTING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533520" y="304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RE STRATEGIES FOR TYPE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UPPORTING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685800" y="1122480"/>
            <a:ext cx="78487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2. COMMUNIC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ring effective, multiple channels of communication between all the stakeholders in children’s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6781680" y="1752480"/>
            <a:ext cx="1905120" cy="1447920"/>
          </a:xfrm>
          <a:prstGeom prst="wedgeRoundRectCallout">
            <a:avLst>
              <a:gd name="adj1" fmla="val -50500"/>
              <a:gd name="adj2" fmla="val 1067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 flipH="1">
            <a:off x="4647600" y="1752480"/>
            <a:ext cx="1904760" cy="1447920"/>
          </a:xfrm>
          <a:prstGeom prst="wedgeRoundRectCallout">
            <a:avLst>
              <a:gd name="adj1" fmla="val -42500"/>
              <a:gd name="adj2" fmla="val 101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 rot="10800000">
            <a:off x="4648320" y="4572000"/>
            <a:ext cx="2590560" cy="1447920"/>
          </a:xfrm>
          <a:prstGeom prst="wedgeRoundRectCallout">
            <a:avLst>
              <a:gd name="adj1" fmla="val -23898"/>
              <a:gd name="adj2" fmla="val 1067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724280" y="5029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2: Communic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80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the school keep parents informed of school programming and students’ prog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might the school insure all information is clear and relevant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Futura Lt BT"/>
              </a:rPr>
              <a:t>all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 famil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the school keep a broad range of community members informed of school programming and students’ prog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the school find out what the parents and community members expect from the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2096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762120" y="304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ATEGIES FOR TYPE 2: COMMUNIC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Communication about school/classroom programs and student progress” is not only one way, from school-to-home, but also includes two-way and many-way channels of communication that connect schools with all students’ families and their comm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me-to-School Communication” is not a given, but should be encouraged and if necessary, families should be informed of or taught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057400" y="1295280"/>
            <a:ext cx="518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3: VOLUNT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interest, talents and availability of family and community members and then providing varied opportunities and needed training for them to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j0399786"/>
          <p:cNvPicPr/>
          <p:nvPr/>
        </p:nvPicPr>
        <p:blipFill>
          <a:blip r:embed="rId1"/>
          <a:stretch/>
        </p:blipFill>
        <p:spPr>
          <a:xfrm>
            <a:off x="4495680" y="1752480"/>
            <a:ext cx="3892680" cy="2594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352680" y="47242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NTEERS, AUDIENCES,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029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3: Volunt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2438280" y="1752480"/>
            <a:ext cx="4724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952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80880" y="1905120"/>
            <a:ext cx="86108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your school find out the talents, interests and availability of parents and community me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your school recruit and equip volunteers with the skills they need to enrich school programs/curriculum and support student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your school match volunteers with school, student, and family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might your school expand the use of volunteers to beyond the school day and the school buil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ATEGIES FOR TYPE 3: VOLUN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762120" y="969840"/>
            <a:ext cx="77724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4: LEARNING AT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Practices to encourage learning outside the classroom assists parents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Futura Lt BT"/>
              </a:rPr>
              <a:t>supporting their children as lea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j0178721"/>
          <p:cNvPicPr/>
          <p:nvPr/>
        </p:nvPicPr>
        <p:blipFill>
          <a:blip r:embed="rId1"/>
          <a:stretch/>
        </p:blipFill>
        <p:spPr>
          <a:xfrm>
            <a:off x="5043600" y="1600200"/>
            <a:ext cx="324792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j0308965"/>
          <p:cNvPicPr/>
          <p:nvPr/>
        </p:nvPicPr>
        <p:blipFill>
          <a:blip r:embed="rId2"/>
          <a:stretch/>
        </p:blipFill>
        <p:spPr>
          <a:xfrm>
            <a:off x="5035680" y="3938760"/>
            <a:ext cx="3263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THE INFLUENTIAL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WORLDS OF A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828800" y="1295280"/>
            <a:ext cx="5410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8"/>
          <p:cNvSpPr/>
          <p:nvPr/>
        </p:nvSpPr>
        <p:spPr>
          <a:xfrm>
            <a:off x="205740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510552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2286000" y="6172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Community and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3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276720" cy="21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06072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1459080" cy="218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1895760" cy="189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"/>
          <p:cNvPicPr/>
          <p:nvPr/>
        </p:nvPicPr>
        <p:blipFill>
          <a:blip r:embed="rId5"/>
          <a:stretch/>
        </p:blipFill>
        <p:spPr>
          <a:xfrm>
            <a:off x="4267080" y="4191120"/>
            <a:ext cx="2895840" cy="19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3" descr=""/>
          <p:cNvPicPr/>
          <p:nvPr/>
        </p:nvPicPr>
        <p:blipFill>
          <a:blip r:embed="rId6"/>
          <a:stretch/>
        </p:blipFill>
        <p:spPr>
          <a:xfrm>
            <a:off x="7315200" y="38098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MEWORK”  not only means work that students do alone, but also interactive activities that students share with others at home or in the community, linking schoolwork with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2057400" y="1219320"/>
            <a:ext cx="518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MPj03091660000[1]"/>
          <p:cNvPicPr/>
          <p:nvPr/>
        </p:nvPicPr>
        <p:blipFill>
          <a:blip r:embed="rId1"/>
          <a:stretch/>
        </p:blipFill>
        <p:spPr>
          <a:xfrm>
            <a:off x="5029200" y="1752480"/>
            <a:ext cx="3657600" cy="2401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80880" y="4952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” at home means how families encourage, listen, react, praise, guide, monitor, and discuss schoolwork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t how they teac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ren school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4: Learning at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0880" y="2057400"/>
            <a:ext cx="84582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does the school increase the parents’ understanding of what their children need to learn at every grade for promotion and/or gradu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do teachers provide information to parents about what student are learning in their classroo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might the school find out what parents want and/or need to learn to help their children learn outside their classroo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2514600" y="1752480"/>
            <a:ext cx="4419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ATEGIES FOR TYPE 4: LEARNING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852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5: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114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Provide opportunities and training for family and community members to assume leadership and participatory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196380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2085840" cy="3124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25779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DECISION-MAKING” means a process of partnership, of shared views and actions toward shared goals, </a:t>
            </a:r>
            <a:r>
              <a:rPr b="1" i="1" lang="en-US" sz="2800" spc="-1" strike="noStrike">
                <a:solidFill>
                  <a:srgbClr val="ffffff"/>
                </a:solidFill>
                <a:latin typeface="Futura Lt BT"/>
              </a:rPr>
              <a:t>not just a power struggle 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between conflicting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914400" y="1219320"/>
            <a:ext cx="518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49528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ENT LEADER” means a representative who shares information with and obtains ideas from other families and community members, not just a parent who attends school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5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514600" cy="2009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1949400" cy="266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"/>
          <p:cNvPicPr/>
          <p:nvPr/>
        </p:nvPicPr>
        <p:blipFill>
          <a:blip r:embed="rId3"/>
          <a:stretch/>
        </p:blipFill>
        <p:spPr>
          <a:xfrm>
            <a:off x="7086600" y="2514600"/>
            <a:ext cx="1609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5: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2362320" y="1676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80880" y="2057400"/>
            <a:ext cx="86108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does the school encourage parents to provide input into policies, improvement plans and proced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might the school provide leadership training for parents in decision making pos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does the school encourage community members to provide input into policies, improvement plans and proced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915840" y="22860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ATEGIES FOR TYPE 5: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1"/>
          <a:stretch/>
        </p:blipFill>
        <p:spPr>
          <a:xfrm>
            <a:off x="457200" y="766800"/>
            <a:ext cx="82296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2800" spc="-1" strike="noStrike">
                <a:solidFill>
                  <a:srgbClr val="ffffff"/>
                </a:solidFill>
                <a:latin typeface="Futura Lt BT"/>
              </a:rPr>
              <a:t>6: COLLABORATING WITHIN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114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Enable schools, students and their families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Futura Lt BT"/>
              </a:rPr>
              <a:t>readily access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the support services, work opportunities and other needed resources/help in thei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Enable schools and famili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Futura Lt BT"/>
              </a:rPr>
              <a:t>to contribute and support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services to thei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"/>
          <p:cNvPicPr/>
          <p:nvPr/>
        </p:nvPicPr>
        <p:blipFill>
          <a:blip r:embed="rId1"/>
          <a:stretch/>
        </p:blipFill>
        <p:spPr>
          <a:xfrm>
            <a:off x="4419720" y="3505320"/>
            <a:ext cx="4419360" cy="3157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2"/>
          <a:stretch/>
        </p:blipFill>
        <p:spPr>
          <a:xfrm>
            <a:off x="5881680" y="990720"/>
            <a:ext cx="208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COMMUNITY” not only means the immediate neighborhoods where schools are located, but any neighborhoods or locations that influence their learning develop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2057400" y="1219320"/>
            <a:ext cx="518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4952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TY” is rated not only by low or high social or economic qualities, but also by strengths and talents available to support students, families, and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j0289538"/>
          <p:cNvPicPr/>
          <p:nvPr/>
        </p:nvPicPr>
        <p:blipFill>
          <a:blip r:embed="rId1"/>
          <a:stretch/>
        </p:blipFill>
        <p:spPr>
          <a:xfrm>
            <a:off x="4800600" y="1981080"/>
            <a:ext cx="365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Futura Lt BT"/>
              </a:rPr>
              <a:t>Reflective Questions for Type #6: Collaborating Within the Commu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2362320" y="1676520"/>
            <a:ext cx="47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33520" y="2057400"/>
            <a:ext cx="84582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utura Lt BT"/>
              </a:rPr>
              <a:t>How is the school used and valued by the community(ies) it serv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utura Lt BT"/>
              </a:rPr>
              <a:t>How does the school use and value its community resour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utura Lt BT"/>
              </a:rPr>
              <a:t>How do the families use and value their community resour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utura Lt BT"/>
              </a:rPr>
              <a:t>How might the school work with the community to expand the relationship between school and career/work opportunit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Lt BT"/>
              </a:rPr>
              <a:t>KEY PRINCIPLES OF TH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a Lt BT"/>
              </a:rPr>
              <a:t>PARTNERSHIP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j0341499"/>
          <p:cNvPicPr/>
          <p:nvPr/>
        </p:nvPicPr>
        <p:blipFill>
          <a:blip r:embed="rId1"/>
          <a:stretch/>
        </p:blipFill>
        <p:spPr>
          <a:xfrm>
            <a:off x="4637160" y="609480"/>
            <a:ext cx="3860640" cy="5410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 6: COLLABORATING WITHIN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15364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inking Partnerships To School Improvement Priority Go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2819520" y="1905120"/>
            <a:ext cx="434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62120" y="2057400"/>
            <a:ext cx="777240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amples of School Improvement Priority G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crease the number of students scoring   at or above the national norms in re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crease student and staff access and expand the use of work that is completed through the use of technolo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crease student use of school library for independent (pleasure) reading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779480" cy="266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3192480" cy="2552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743200" y="304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Parents are the principle teachers of their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5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2727360" cy="218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"/>
          <p:cNvPicPr/>
          <p:nvPr/>
        </p:nvPicPr>
        <p:blipFill>
          <a:blip r:embed="rId4"/>
          <a:stretch/>
        </p:blipFill>
        <p:spPr>
          <a:xfrm>
            <a:off x="6400800" y="3124080"/>
            <a:ext cx="2502000" cy="200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"/>
          <p:cNvPicPr/>
          <p:nvPr/>
        </p:nvPicPr>
        <p:blipFill>
          <a:blip r:embed="rId5"/>
          <a:stretch/>
        </p:blipFill>
        <p:spPr>
          <a:xfrm>
            <a:off x="3276720" y="4419720"/>
            <a:ext cx="289548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2. It is the school’s responsibility to initiate active communication with parents in order to establish a trusting relationship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0" descr="j0398817"/>
          <p:cNvPicPr/>
          <p:nvPr/>
        </p:nvPicPr>
        <p:blipFill>
          <a:blip r:embed="rId1"/>
          <a:stretch/>
        </p:blipFill>
        <p:spPr>
          <a:xfrm>
            <a:off x="1981080" y="1905120"/>
            <a:ext cx="548640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04920" y="2286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A positive partnership between parents and teachers will empower the parents, the teachers and th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248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19320" y="634032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386325"/>
          <p:cNvPicPr/>
          <p:nvPr/>
        </p:nvPicPr>
        <p:blipFill>
          <a:blip r:embed="rId1"/>
          <a:stretch/>
        </p:blipFill>
        <p:spPr>
          <a:xfrm>
            <a:off x="1219320" y="2133720"/>
            <a:ext cx="2706480" cy="409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MPj04003540000[1]"/>
          <p:cNvPicPr/>
          <p:nvPr/>
        </p:nvPicPr>
        <p:blipFill>
          <a:blip r:embed="rId2"/>
          <a:stretch/>
        </p:blipFill>
        <p:spPr>
          <a:xfrm>
            <a:off x="4800600" y="4191120"/>
            <a:ext cx="3282840" cy="218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j0400379"/>
          <p:cNvPicPr/>
          <p:nvPr/>
        </p:nvPicPr>
        <p:blipFill>
          <a:blip r:embed="rId3"/>
          <a:stretch/>
        </p:blipFill>
        <p:spPr>
          <a:xfrm>
            <a:off x="4800600" y="1905120"/>
            <a:ext cx="3279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SIX TYPES OF SCHOOL, FAMILY, AND COMMUNITY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Supporting Adults as Parent, Workers and Communit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Volunt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Learning at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Collaborating With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828800" y="1600200"/>
            <a:ext cx="5410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1. SUPPORTING AD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s which support adults as caretaker, workers and community members can assist adults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porting their children as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386355"/>
          <p:cNvPicPr/>
          <p:nvPr/>
        </p:nvPicPr>
        <p:blipFill>
          <a:blip r:embed="rId1"/>
          <a:stretch/>
        </p:blipFill>
        <p:spPr>
          <a:xfrm>
            <a:off x="4952880" y="144792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PPH01913J0000[1]"/>
          <p:cNvPicPr/>
          <p:nvPr/>
        </p:nvPicPr>
        <p:blipFill>
          <a:blip r:embed="rId2"/>
          <a:stretch/>
        </p:blipFill>
        <p:spPr>
          <a:xfrm>
            <a:off x="4952880" y="3886200"/>
            <a:ext cx="32004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1:  Supporting Ad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does the school support parents as lifelong lear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might the school find out what parents want to and/or need to learn to successfully assume their roles as caretakers, workers and community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does the school assist parents in establishing home conditions which support their children’s development at all 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1752480" y="1523880"/>
            <a:ext cx="5410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23:23:47Z</dcterms:created>
  <dc:creator>Jeanette Gordon</dc:creator>
  <dc:description/>
  <dc:language>en-US</dc:language>
  <cp:lastModifiedBy>Jeanette</cp:lastModifiedBy>
  <dcterms:modified xsi:type="dcterms:W3CDTF">2010-08-16T00:27:02Z</dcterms:modified>
  <cp:revision>19</cp:revision>
  <dc:subject/>
  <dc:title>Slide 1</dc:title>
</cp:coreProperties>
</file>